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06F-CD87-4801-BF66-77EAA693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584-9FCD-48A7-BA61-C395D791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7EC-9196-4DA3-BAA5-F71CB260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A4F-7B89-46A6-8A02-1AC094CE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D7B5-71BC-4615-BFFF-74E85754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B20F-C28B-41FA-9592-BEC9C14C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BA5A-9C16-4880-999A-802D3FC7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6190-182F-42F1-B44A-83072CFA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3D8F-5309-414D-8A42-1CF0BEB2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E5C5-A265-4383-AC40-AB67D70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49CC-B90C-41E8-8FB5-F8784B52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488-DF96-4AD8-9C36-B261C3E3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A130-EE8B-449C-8AAB-9C06888E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EF24-98A2-4842-B748-2B4A8D8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3ADF-34AD-4AAD-9B94-FDEF5B97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7C0B-2275-4D2F-952F-59C34E69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FE97-7C41-42D4-8553-D67D74FB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32-8B95-49C7-8397-2BEEB737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BF7-17F2-4135-BF27-1D2BAE8E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FE8-F209-40F4-B36E-34EDDF50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415-6342-42DC-9402-AA3FC7D4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21C-90F3-475D-9987-112DC1F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856-B619-4B21-8A2A-CC3906E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24A-5D78-4F77-833C-1A459509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1880" y="1828440"/>
            <a:ext cx="868212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BD73-104F-4CC9-B5BF-9D9743A8C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9800" cy="474840"/>
            <a:chOff x="414360" y="2968560"/>
            <a:chExt cx="73980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264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080" y="2968560"/>
              <a:ext cx="3700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DEF2-9C12-4EDE-A924-11DC5F31832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xplicitinstruction.org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ngaging All Student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928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ablishing Inclusive Active Participation in all Clas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3EB9-B156-4A0B-967F-B680893E93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uctur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horal Responses </a:t>
            </a:r>
            <a:br>
              <a:rPr sz="2800"/>
            </a:b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Use when answers are short &amp; the same</a:t>
            </a:r>
            <a:br>
              <a:rPr sz="1400"/>
            </a:b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Use when recall and rehearsal of facts is desired</a:t>
            </a:r>
            <a:br>
              <a:rPr sz="1400"/>
            </a:b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Use for quick review of information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17440"/>
            <a:ext cx="72388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are looking at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up your hands to indicate 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ink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your hands as you say,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say “Every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427-4421-4255-A2AC-3F4C9466B0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Choral Responses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are looking at a common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o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ink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fo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DFC-E646-469E-A997-88569E9A5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Choral Responses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nts for Chor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dequate thinking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put up their thumbs or look at you to indicate adequate thinking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udents don’t respond or blurt out an answer, repeat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Gentle Re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D824-0599-4BAC-A3F7-9E95A6CECC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ral Respon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mming it u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benef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ral respo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79C-723A-40B1-82E8-8C42764870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Partners</a:t>
            </a:r>
            <a:br>
              <a:rPr sz="32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Use when answers are long or different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Use for foundational and higher order questions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lower performing students with middle perform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partners a number (#1 or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partners next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triads when appropriate (#1 #2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rcoal"/>
              </a:rPr>
              <a:t>Effective secondary procedure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- Prepare a seating chart indicating names, partners, an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17320" y="608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4F7-E6E8-4AF8-99FE-69CDEA9FA72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Partn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740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hints for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tudents how to work togethe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Lean, and Whispe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Lean, Listen, and Whis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artnerships occasion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very three to six wee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854-145B-4280-8A57-CC186AD3457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ses of Partn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ding  to a question, task, or directiv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information to a partn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ing with a part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A9A-B9FE-4F04-87D9-41EDC7D7EA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Uses of 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esponding to a question, task, or dire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- Pair - Sh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28B-E3F9-44D5-9A94-D267D17633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343400" y="4648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648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few words about text-dependent questions</a:t>
            </a:r>
            <a:br>
              <a:rPr sz="28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sher &amp; Frey, 2012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2514600"/>
            <a:ext cx="2438640" cy="45720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nions, argu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textual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3238560"/>
            <a:ext cx="1523880" cy="38088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886200"/>
            <a:ext cx="22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38862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’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7200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5257800"/>
            <a:ext cx="2210040" cy="304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5867280"/>
            <a:ext cx="2971800" cy="304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7080" y="2133720"/>
            <a:ext cx="1828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133720"/>
            <a:ext cx="259092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61722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715000"/>
            <a:ext cx="2057400" cy="304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588960" y="25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2209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95480" y="26665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7432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4290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114800"/>
            <a:ext cx="1905120" cy="4572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2880" y="46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724280"/>
            <a:ext cx="1905120" cy="3812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257800"/>
            <a:ext cx="1828800" cy="3808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264-3FC3-40EB-A995-A37EA8619C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esponding to a question, task, or dir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ying  answer to partn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tners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stud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verbal or writ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ence 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share answers with the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the sentence 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iv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714A-9ED5-4102-ADA0-C7AA328260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ita L. Archer, Ph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and Consul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land, Oreg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erteach@a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0091-1D71-4015-80C8-CFC35122F5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 - Example</a:t>
            </a:r>
            <a:br>
              <a:rPr sz="32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ffolding Answers with Sentence Starter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cDougal Littell Litera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nth Grade by Gary Sot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background information do you learn about Victor in the first paragraph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y say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first paragraph, we learn the following  information about Victor.  First, we learned that___________.  Next, we learned that _________________.  Finally, we learned 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boys scowl, they see girls look at them.  What might the girls be think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y say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the boys scowl, the girls might be thinking _____________________________________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F18-0E26-4719-9958-D0FC2CE946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 of having students share answers with their partners before you call on them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240840" y="601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457-2AD7-4412-817D-7ED0B0D9D0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 - Discussio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discuss responses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, task, or direct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ffold the discussion with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7DF-48EE-4DFA-8AC0-F9E8CD07DC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3333cc"/>
                </a:solidFill>
                <a:latin typeface="Charcoal"/>
              </a:rPr>
              <a:t>Discuss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sentence star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gre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sagree   with ________ because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sagree with ________.      I think ______________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ee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gree with ____________  because 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gree with ___________   and I also  think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ヒラギノ角ゴ Pro W3"/>
              </a:rPr>
              <a:t>_x0008__x0008__x0008__x0008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2C6-A51D-47AA-89F9-C18495B1F53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cc"/>
                </a:solidFill>
                <a:latin typeface="Charcoal"/>
              </a:rPr>
              <a:t>Discussion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apted from presentation by Kate Kinsella, Ph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ed Discu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idea is similar to __________ idea.  I think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ideas expand on _________ idea.  I think 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gree with ___________ and want to add_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gre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on’t agree with __________ because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have a different perspective from _______.  I think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views are different from ____________.  I believe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8C4-FFAA-421E-9517-E585A41138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cc"/>
                </a:solidFill>
                <a:latin typeface="Charcoal"/>
              </a:rPr>
              <a:t>Discuss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d Discus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you please explain 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d you mean when you stated 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you please clarify your idea for 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 hear you saying is 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 believe 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BA5-720B-4E59-B933-441FBD27DCC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aching information to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 information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organizers, maps, diagrams, char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Po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s, drawings, notes, vocabulary lo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9AE-C685-487F-BEF2-E44F7BB8E90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lvl="1" marL="1105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ing information to partner using worked problem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mple #1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ercent of 120 is 90?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· 120 =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0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= 0.75           So 90 is 75% of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mple #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 living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, dark bed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mous movie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sterious, twinkling sta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5184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301-68BD-4595-A269-737DA3DEAE1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ing with a partn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content area information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, notes, handou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- Tell - Help - Che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52FD-D53B-4378-A229-7414739079D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88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the students a minute or two to study notes, text material, graphic organizer, or hand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partners (#1 or #2) to retell what they remember about topi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the second partner assist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ing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ing h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ing addi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both partners have exhausted recall, they check with their notes, text material, graphic organizer, or hand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-13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E28-F161-438D-865D-F57ADC116F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543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information can be found in Chapter 6 of this 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er, A., &amp; Hughes, C.  (2011)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Instruction: Effective and Efficient Teach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Y: Guilfor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s that illustrate active participation procedures can be found on this website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explicitinstruction.org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AF5D-5B75-4367-9CAA-EB9F704AF0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Uses of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partner to see if directions ar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materials with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partners during indepen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papers, handouts, assignments for absent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94F-4131-41D6-AADC-511ABEEE41B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desirable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.  Calling on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li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n volunteers only when answer relates to personal exper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call on volunteers when answer is product of instruction 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call on studen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4EE-7AB1-4739-A9F9-32DFA4C1A5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desirable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.  Calling on inattentive stud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call on inattentive stud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to call on student when he/she is atten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gain attention of stud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hysical prox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directive to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students to complete quick, physic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4D0-8BBE-45B9-B97F-E43E8443A2C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1 - Partner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Give stud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verbal or writ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tence st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share answers with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the sentence st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n a student to give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 student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discus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star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094-9476-4D1C-A052-47B524EFA40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7040"/>
            <a:ext cx="8031240" cy="12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2 - Ques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a quest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s to indicate silenc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inking ti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a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on answe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students in a discus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22D-1F0A-498D-83CD-44E04DC6221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s for randomly calling on students  </a:t>
            </a:r>
            <a:br>
              <a:rPr sz="2800"/>
            </a:br>
            <a:br>
              <a:rPr sz="20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#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Write names on cards or stick.  Pull a sti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and call on a stu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#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pad or iphone app (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r’s Pi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ick Pick, or Pick 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#3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wo decks of playing cards.  Tape c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from one deck to desks.  Pull a card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other deck and call on a 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AE8-873B-4DCF-B258-A3633EDCBC4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 #3 - Whip Around or 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hen many possibl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Ask a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Give students think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tart at any location in the room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ave students quickly give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up and down rows, limiting comment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 student to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tudents are “habitual passers”, alter the procedure. Retur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tudents that pass. Have them report the best or mo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esting idea of their peer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9E0E-AEBE-4658-BE18-02940C89EA3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ritten Respon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u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aph 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ectronic tab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aphic organiz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se s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ourn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se c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cabulary lo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st - 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s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ticip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42B-48D2-4A49-A930-12D6675015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ritten Respon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ntence st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riting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rsona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ighlighting - Under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ick 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ick dr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rm-up activity (Do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it Ti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DB4-250F-471F-9101-98F7E54CD6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Writte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ten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ge length of written response to avoid “voids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esponse fairly shor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esponse “eternal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F29-BDF8-4D23-AB23-C683458E3A1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ctive Participation - Why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97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 to respond rela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academic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on-task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ehavior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v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uccessful responding brings these resul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nstruction - 80%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/Review - 90% or higher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7FE-F997-4CEB-883A-C88EE1EB43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Writte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 Sl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ite boa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dire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write answers on individual whiteboar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dequate response time has been given, have students display s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feedback to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“Virtual white boards” can be created using heavy sheet protectors or plastic pl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20F-6EAF-46F1-9E24-D5B783628E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Writte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 c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write possible responses on cards or paper or provide prepared 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responses: Yes, No; True - False; a.b.c.d., I.2.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tion Marks: . ? ! , “ 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es of Government: Legislative, Executive, Jud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Vocabulary Terms: perimeter,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a ques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select best respons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students to hold up respons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responses and provide feedba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se Sheet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sides: True, False; 1 2 3 4; yes n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 c 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799-ABE5-409F-9BB7-9A83C73B3F6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ct out historical event, vocabulary term, concept, or pro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articipate i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ck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ted 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14F-2C84-48F3-8682-D4A6363CCBF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dicate answers with ge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dicate answer with facial expr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“Show 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po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”  “Show 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 despo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dicate answer by holding up fingers to match numbered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89F-40ED-40F2-9DB8-19072B7625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place hand to indicate level of understanding (high-forehead, OK-neck, low-abdome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isplay one (no understanding) to five (clear understanding)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550-AC7E-425E-B0DD-ADB0AA34AF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numbered items on th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elude   2.  intention   3. relucta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troduce and model h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a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form answer (e.g., 3 finger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item #3) on their de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dequate thinking time has been give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hold up hand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2AD-9CF5-4072-8835-D0FCE7B54EC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ssage Reading Proced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disadvantages of “round-robin reading” when the group size is l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5D8-A03A-4771-8A98-34FF89E992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 - Silent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ed Silent Reading (Whisper Re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 pre-reading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to read a certain amount and  to reread material if they finish ear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students’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ndividuals whisper-read to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 post- reading qu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9A6-6CFD-4ABB-8EA8-FB3EEA14A1E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Choral 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ral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election with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t a moderat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“Keep your voice with min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sible Use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ally read wording on slide, directions, steps in strategy, initial part of story/chapt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250200" y="729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C546-4A0B-4457-9CA5-96172E70655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Cloze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z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nd delete “meaningful”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read the delete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sible Uses: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 you want to read something quickly and have everyone atte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3C9-EBE0-4C69-8BB9-480A1042967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tive Participation - What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tudents Respond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ossibl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procedures that engage all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173-1BB4-4715-B9C5-3D28B8A5C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Cloze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ze Reading - Parts of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first part of sente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top, have students continue reading to the end of the sen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196-07DD-4AFC-938F-119660D2D3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ssage Reading - Individual Tu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017440"/>
            <a:ext cx="6858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 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m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individual student in random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mount of material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used with large group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paragraphs for preview and practice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he me or we strateg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EFA-F0C8-4FB4-BA42-46AF4A8B6A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Passage Reading 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student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sper reads to part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ative - Partners alternate by page o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text - Partners alternate by para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 - Stop -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d b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light critical detail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 notes, retell content, or answ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ner’s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60E-4D5F-425B-AFBF-C1948C1AC04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Passage Reading 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cts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 you figure out this wo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word is _____.  What word?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Reread the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9F5-F318-4D7C-BE79-735791B44167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Passage Reading 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ffolding lowest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read the material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 #1 (higher reader) reads segment of text. Partner #2 (lower reader) reads the SAME mater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reader placed on triad and reads with another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allowed to say “me” or “we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BFF-D8E4-4289-9700-D719F490E3D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is not a spectator s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sp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C864-6733-4E51-8A1A-695EE98C911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ank you for your participation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with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with com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6401-BEF6-42DD-A857-7EA85EFFFB2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662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tive Participatio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-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students respond in a lesson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A44E-CF4B-40D0-B7C4-EED6802137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 Participation -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ainstorming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think and record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tudents are writing, move around the classroom and write down students’ ideas and their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share their ideas with their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m record their partners’ best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tudents are sharing, continue to circulate around the room, recording ideas and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he ideas and names on the screen.  Use this as the vehicle for shar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F59-8E68-4C72-8C91-74217147E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view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Active Participation Procedur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al Respons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spons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writing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bo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Cards/Response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Respons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g out/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 Sign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F1D-110A-48E5-96DE-884EC9F3D9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ctive Participation Proced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ve participation procedure should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liciting th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s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0FB-35A6-4D13-BD7B-C7434BD7F5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1:45:01Z</dcterms:created>
  <dc:creator>Archer Anita</dc:creator>
  <dc:description/>
  <dc:language>en-US</dc:language>
  <cp:lastModifiedBy>Archer Anita</cp:lastModifiedBy>
  <cp:lastPrinted>2012-09-02T19:06:56Z</cp:lastPrinted>
  <dcterms:modified xsi:type="dcterms:W3CDTF">2013-07-14T00:25:25Z</dcterms:modified>
  <cp:revision>54</cp:revision>
  <dc:subject/>
  <dc:title> </dc:title>
</cp:coreProperties>
</file>