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CF0-0EE4-4BE1-9D74-F56A4AFE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525-07C3-40C0-8B86-86A82938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339-ADF9-4CDB-AD76-09399500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D88-3B4E-48B1-B3FA-94674B2F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92C9-8EBB-42F9-97C7-A5F85B90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CCC3-A6CA-405F-8C36-445563CA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D20A-858B-4C02-95AE-99E3C66F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A19B-5499-4A4A-9F74-A7E48CF3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390-FA00-4D7C-B084-04776D5F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13F6-4851-4F38-B905-F6199DB8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DD71-F903-4C89-A8B9-DD7A122A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EFD-9064-4529-A51F-CF9AE6E3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CDEA-1AE8-4E38-84E4-7A0AB5B4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CF7E-3779-4DE2-9D69-0A602670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5AE1-B089-4A38-B249-38718F47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F02A-0281-4029-AF77-8834AC9D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0C05-E88D-4093-AE15-184D6AC2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767-65F7-4475-814F-5BA097F9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38F-9A8F-4E29-B736-A7BE1CF9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7D7-70F6-42BD-9CCC-7BF1EF57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462-72F1-49C5-856C-08FD4A9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6E3-8B5B-4DE9-940F-E4BD023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D22-6BCD-4C89-9D8E-07469015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628-8966-423F-9D67-9B0A519B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1880" y="1828440"/>
            <a:ext cx="868212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F370-EB1C-4007-A7A1-3E06B23F5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9800" cy="474840"/>
            <a:chOff x="414360" y="2968560"/>
            <a:chExt cx="73980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264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080" y="2968560"/>
              <a:ext cx="37008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D77F-8752-4A09-ADE0-ACA943830DF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xplicitinstruction.org/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ngaging All Students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928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stablishing Inclusive Active Participation in all Class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A307-0618-40FA-8967-EA33FBEA27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ructured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Choral Responses </a:t>
            </a:r>
            <a:br>
              <a:rPr sz="2800"/>
            </a:b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Use when answers are short &amp; the same</a:t>
            </a:r>
            <a:br>
              <a:rPr sz="1400"/>
            </a:b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Use when recall and rehearsal of facts is desired</a:t>
            </a:r>
            <a:br>
              <a:rPr sz="1400"/>
            </a:b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Use for quick review of information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2017440"/>
            <a:ext cx="723888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are looking at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up your hands to indicate 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ink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your hands as you say,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say “Every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35C-F08F-459B-A60C-BB45022BCC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tructured Choral Responses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s are looking at a common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to stim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ink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for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821-D8E8-4270-81BF-4E609824CB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tructured Choral Responses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nts for Choral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dequate thinking 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put up their thumbs or look at you to indicate adequate thinking ti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udents don’t respond or blurt out an answer, repeat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Gentle Re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A98-223F-4886-B890-6E5B10D8A8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horal Respons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mming it up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benefit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ral respon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A21-A436-490F-89BD-FDD1D49EDD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tructured Partners</a:t>
            </a:r>
            <a:br>
              <a:rPr sz="32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Use when answers are long or different</a:t>
            </a:r>
            <a:br>
              <a:rPr sz="1600"/>
            </a:b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Use for foundational and higher order questions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d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 lower performing students with middle performing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partners a number (#1 or #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partners next t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 triads when appropriate (#1 #2 #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harcoal"/>
              </a:rPr>
              <a:t>Effective secondary procedure</a:t>
            </a:r>
            <a:r>
              <a:rPr b="0" lang="en-US" sz="2000" spc="-1" strike="noStrike">
                <a:solidFill>
                  <a:srgbClr val="000000"/>
                </a:solidFill>
                <a:latin typeface="Charcoal"/>
              </a:rPr>
              <a:t> - Prepare a seating chart indicating names, partners, and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417320" y="608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7CB-FDBD-4208-981D-2AD72C085D0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tructured Partne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017800"/>
            <a:ext cx="740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hints for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students how to work togethe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Lean, and Whispe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, Lean, Listen, and Whis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partnerships occasional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very three to six wee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EC1-16C7-4F7E-AAFA-A6197A99C4A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Uses of Partner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ding  to a question, task, or directiv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ing information to a partne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ing with a part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A49-D93B-4F43-8348-BD8F787430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Uses of 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spcBef>
                <a:spcPts val="21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Responding to a question, task, or dire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- Pair - Sh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1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ing id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C22E-B74E-449E-BF1D-8408D04AC51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343400" y="4648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648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few words about text-dependent questions</a:t>
            </a:r>
            <a:br>
              <a:rPr sz="28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isher &amp; Frey, 2012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2514600"/>
            <a:ext cx="2438640" cy="457200"/>
          </a:xfrm>
          <a:prstGeom prst="flowChart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inions, argumen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textual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3238560"/>
            <a:ext cx="1523880" cy="38088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886200"/>
            <a:ext cx="22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38862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’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57200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5257800"/>
            <a:ext cx="2210040" cy="304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5867280"/>
            <a:ext cx="2971800" cy="304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67080" y="2133720"/>
            <a:ext cx="182880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133720"/>
            <a:ext cx="259092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617220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715000"/>
            <a:ext cx="2057400" cy="3049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588960" y="2523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22096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95480" y="26665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743200"/>
            <a:ext cx="1905120" cy="3808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429000"/>
            <a:ext cx="1981440" cy="53352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re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114800"/>
            <a:ext cx="1905120" cy="4572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82880" y="468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724280"/>
            <a:ext cx="1905120" cy="3812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257800"/>
            <a:ext cx="1828800" cy="3808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B4F-AD61-404D-9848-2055030826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spcBef>
                <a:spcPts val="21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Responding to a question, task, or dir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ying  answer to partn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rtners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studen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k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verbal or writ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tence 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tudents share answers with thei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ing the sentence st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ive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4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8__x0008__x0008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D4C-8BBB-4A83-8E4B-FB21DDF43AD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nita L. Archer, PhD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and Consul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land, Oreg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erteach@a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2A72-31B4-4AD8-93FA-F85058A09D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 - Example</a:t>
            </a:r>
            <a:br>
              <a:rPr sz="32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affolding Answers with Sentence Starters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cDougal Littell Literatu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7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venth Grade by Gary Sot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background information do you learn about Victor in the first paragraph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by saying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first paragraph, we learn the following  information about Victor.  First, we learned that___________.  Next, we learned that _________________.  Finally, we learned 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boys scowl, they see girls look at them.  What might the girls be think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by saying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the boys scowl, the girls might be thinking _____________________________________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0E0-7EBC-44B1-AE52-D2F8FE7E49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tner U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benefits of having students share answers with their partners before you call on them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240840" y="601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18F-92AA-4139-A984-BA3B2CB283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 - Discussion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s discuss responses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, task, or directi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ffold the discussion with sent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935-08A5-4EFE-91D1-784C61FFEF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3333cc"/>
                </a:solidFill>
                <a:latin typeface="Charcoal"/>
              </a:rPr>
              <a:t>Discuss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sentence star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gre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sagree   with ________ because 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sagree with ________.      I think ______________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ee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gree with ____________  because 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gree with ___________   and I also  think 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ヒラギノ角ゴ Pro W3"/>
              </a:rPr>
              <a:t>_x0008__x0008__x0008__x0008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64520" y="682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BDA-E43D-48BE-8E08-E91EFC24518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Charcoal"/>
              </a:rPr>
              <a:t>Verbal Responses - </a:t>
            </a:r>
            <a:r>
              <a:rPr b="1" i="1" lang="en-US" sz="3200" spc="-1" strike="noStrike">
                <a:solidFill>
                  <a:srgbClr val="3333cc"/>
                </a:solidFill>
                <a:latin typeface="Charcoal"/>
              </a:rPr>
              <a:t>Discussion</a:t>
            </a:r>
            <a:br>
              <a:rPr sz="32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dapted from presentation by Kate Kinsella, Ph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ed Discus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idea is similar to __________ idea.  I think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ideas expand on _________ idea.  I think 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agree with ___________ and want to add_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agree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don’t agree with __________ because 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have a different perspective from _______.  I think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 views are different from ____________.  I believe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64520" y="682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B26-1C98-48FC-9CFA-2D025097723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Charcoal"/>
              </a:rPr>
              <a:t>Verbal Responses - </a:t>
            </a:r>
            <a:r>
              <a:rPr b="1" i="1" lang="en-US" sz="3200" spc="-1" strike="noStrike">
                <a:solidFill>
                  <a:srgbClr val="3333cc"/>
                </a:solidFill>
                <a:latin typeface="Charcoal"/>
              </a:rPr>
              <a:t>Discussio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d Discus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you please explain 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d you mean when you stated  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you please clarify your idea for 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 hear you saying is 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you believe 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64520" y="682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3A5-3AC5-43FC-BFCE-E668CBC4C75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rbal Responses-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aching information to a part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 information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organizers, maps, diagrams, char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Po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s, drawings, notes, vocabulary log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ヒラギノ角ゴ Pro W3"/>
              </a:rPr>
              <a:t>_x0008__x0008__x0008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999-BFB5-4842-B59B-2F338871851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rbal Responses-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lvl="1" marL="11059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ing information to partner using worked problem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mple #1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ercent of 120 is 90?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· 120 =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90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= 0.75           So 90 is 75% of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mple #2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 living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, dark bed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mous movie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ysterious, twinkling star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8__x0008__x0008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51840" y="6296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379-2887-47F9-BC6D-631CFFD3F14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rbal Responses-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 Us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ing with a partn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content area information u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, notes, handout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y - Tell - Help - Che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ヒラギノ角ゴ Pro W3"/>
              </a:rPr>
              <a:t>_x0008__x0008__x0008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368-DBAA-4CB0-AB84-3C8CD6B36DD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rbal Responses-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888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the students a minute or two to study notes, text material, graphic organizer, or hand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partners (#1 or #2) to retell what they remember about topi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the second partner assist 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ing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ving h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ling additional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both partners have exhausted recall, they check with their notes, text material, graphic organizer, or hand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-13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223-3A30-45EB-A977-9E412050D9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esourc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543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information can be found in Chapter 6 of this boo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er, A., &amp; Hughes, C.  (2011)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 Instruction: Effective and Efficient Teach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Y: Guilford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s that illustrate active participation procedures can be found on this website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www.explicitinstruction.org</a:t>
            </a:r>
            <a:br>
              <a:rPr sz="2400"/>
            </a:b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73C-9234-4BD9-8DC7-04E2645E01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erbal Responses -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Uses of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partner to see if directions ar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materials with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partners during independen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1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papers, handouts, assignments for absent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04A-3841-4B1B-8415-881FC0DD311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harcoal"/>
              </a:rPr>
              <a:t>Verbal Responses - </a:t>
            </a: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desirable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.  Calling on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li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n volunteers only when answer relates to personal exper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call on volunteers when answer is product of instruction 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 call on student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E2B-6094-4197-9AE5-837E0E6B98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harcoal"/>
              </a:rPr>
              <a:t>Verbal Responses - </a:t>
            </a: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desirable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.  Calling on inattentive stud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call on inattentive stude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to call on student when he/she is atten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regain attention of stud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hysical prox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directive to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students to complete quick, physic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A8C-3CD2-4C45-A285-313EC60795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1 - Partner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Give stud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nk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verbal or writt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tence st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tudents share answers with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the sentence st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n a student to give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 student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discus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star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64520" y="682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15A-494A-464B-AA3D-887C342103C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7040"/>
            <a:ext cx="8031240" cy="128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Verbal Responses 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2 - Question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a questi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your hands to indicate silenc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inking tim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on a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 on answer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 students in a discuss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64520" y="6824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23B-64A2-41B0-A2D2-39C7A60453A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Verbal Responses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es for randomly calling on students  </a:t>
            </a:r>
            <a:br>
              <a:rPr sz="2800"/>
            </a:br>
            <a:br>
              <a:rPr sz="2000"/>
            </a:b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#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Write names on cards or stick.  Pull a stic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and call on a stud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#2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pad or iphone app (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cher’s Pic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ick Pick, or Pick M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#3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wo decks of playing cards.  Tape ca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from one deck to desks.  Pull a card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other deck and call on a stu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572-3014-4695-906D-FB7DC06CA9D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Verbal Responses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Individual Tur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 #3 - Whip Around or P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hen many possible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Ask a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Give students think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tart at any location in the room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ave students quickly give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o up and down rows, limiting comment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ow student to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tudents are “habitual passers”, alter the procedure. Retur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tudents that pass. Have them report the best or mo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esting idea of their peer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44D-2D61-4581-8AB4-E9F62AEF2CE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ritten Respons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2017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u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aph p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lectronic tab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aphic organiz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onse s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ourn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ponse c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ocabulary lo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st - 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s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ticipation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02E-F739-4B2D-87BC-EA6A3AF0A3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ritten Respons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ntence st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riting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rsonal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ighlighting - Under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rainst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Quick w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Quick dr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arm-up activity (Do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it Tic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36A-802C-454C-BB48-F61C61A422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Writte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ten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ge length of written response to avoid “voids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1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response fairly shor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1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response “eternal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542-B358-42DB-BB10-7B6DB2CE58F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ctive Participation - Why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49780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ies to respond relat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academic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on-task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behaviora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v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successful responding brings these resul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Instruction - 80%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e/Review - 90% or higher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3B3-F4AF-4FDB-9065-D39D194924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200"/>
            </a:b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Writte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35192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e Sla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ite boa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dire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tudents write answers on individual whiteboar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dequate response time has been given, have students display s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feedback to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“Virtual white boards” can be created using heavy sheet protectors or plastic pl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3D5-5BF4-4B8F-9F95-31690C0BA57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Writte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e c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tudents write possible responses on cards or paper or provide prepared 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responses: Yes, No; True - False; a.b.c.d., I.2.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tion Marks: . ? ! , “ “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es of Government: Legislative, Executive, Jud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Vocabulary Terms: perimeter,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a ques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tudents select best response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students to hold up response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 responses and provide feedba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ponse Sheet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sides: True, False; 1 2 3 4; yes n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 c 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FF8-9A17-405A-969F-63E0F5CCCE1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Actio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ct out historical event, vocabulary term, concept, or proc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participate in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ck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ted 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B114-1882-4ED6-9A9F-D2B436E0117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Actio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dicate answers with ges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ial expres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dicate answer with facial expr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“Show 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po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”  “Show 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 despo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dicate answer by holding up fingers to match numbered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F49-3918-4A45-918F-4E101504D50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Actio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place hand to indicate level of understanding (high-forehead, OK-neck, low-abdomen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display one (no understanding) to five (clear understanding)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EE9-D54F-4D13-88F3-89D4CF6D62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harcoal"/>
              </a:rPr>
              <a:t>Action Respons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numbered items on the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elude   2.  intention   3. relucta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troduce and model hand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a ques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form answer (e.g., 3 finger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item #3) on their de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dequate thinking time has been give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hold up hand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58B-E323-49E5-9A86-6ED9E991DF5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assage Reading Proced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ome disadvantages of “round-robin reading” when the group size is l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586-88B2-4711-ABAE-9035126B80A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Passage Reading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 - Silent Read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mented Silent Reading (Whisper Re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 pre-reading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students to read a certain amount and  to reread material if they finish ear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students’ rea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individuals whisper-read to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 post- reading ques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D7D-179D-44F9-81C4-F2E1D1CCDE4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br>
              <a:rPr sz="3200"/>
            </a:b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Passage Reading 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Choral  Read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ral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election with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t a moderat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students “Keep your voice with min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sible Use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rally read wording on slide, directions, steps in strategy, initial part of story/chapt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250200" y="729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3F4-0E20-4A2F-BBD2-A248681D4B4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Passage Reading 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Cloze Read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z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se and delete “meaningful”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read the delete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sible Uses: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 you want to read something quickly and have everyone atte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95A-CC54-49C8-A12B-CF80DBF401C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tive Participation - What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to Resp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Students Respond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ossibl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procedures that engage all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82A-5354-4A93-8370-B5F608F31F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harcoal"/>
              </a:rPr>
              <a:t>Passage Reading - </a:t>
            </a:r>
            <a:r>
              <a:rPr b="1" i="1" lang="en-US" sz="2800" spc="-1" strike="noStrike">
                <a:solidFill>
                  <a:srgbClr val="333399"/>
                </a:solidFill>
                <a:latin typeface="Charcoal"/>
              </a:rPr>
              <a:t>Cloze Read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ze Reading - Parts of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first part of senten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top, have students continue reading to the end of the sen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148-13A1-4799-AF88-19594660EE7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Passage Reading - Individual Tur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017440"/>
            <a:ext cx="68580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al 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mal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on individual student in random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mount of material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used with large group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paragraphs for preview and practice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he me or we strateg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A1B-377C-425E-A0AB-2AAD7BFFBC2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Charcoal"/>
              </a:rPr>
              <a:t>Passage Reading  - </a:t>
            </a: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ner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each student a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sper reads to partn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ative - Partners alternate by page o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text - Partners alternate by para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ad - Stop -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d b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ighlight critical detail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ke notes, retell content, or answ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ner’s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D27-E179-4827-907D-600FEFE57162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Charcoal"/>
              </a:rPr>
              <a:t>Passage Reading  - </a:t>
            </a: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rects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 you figure out this wo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word is _____.  What word?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  Reread the 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D92-3F96-4F09-BAD7-967A86EE6A4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harco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Charcoal"/>
              </a:rPr>
              <a:t>Passage Reading  - </a:t>
            </a:r>
            <a:r>
              <a:rPr b="1" i="1" lang="en-US" sz="3200" spc="-1" strike="noStrike">
                <a:solidFill>
                  <a:srgbClr val="333399"/>
                </a:solidFill>
                <a:latin typeface="Charcoal"/>
              </a:rPr>
              <a:t>Partner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ffolding lowest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read the material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 #1 (higher reader) reads segment of text. Partner #2 (lower reader) reads the SAME mater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reader placed on triad and reads with another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allowed to say “me” or “we”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6D2-4D36-43BA-BD60-38D8881CBEC9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earning is not a spectator spor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sp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1A46-6E5D-4E70-93D6-D41E83FA263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ank you for your participation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with 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with compa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46EF-F2AB-486D-9A21-F8CCB0E4EAC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662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tive Participatio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-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ow can students respond in a lesson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ten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381C-5F9F-4E7B-814D-0E46A56638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ctive Participation -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rainstorming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tudents think and record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tudents are writing, move around the classroom and write down students’ ideas and their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tudents share their ideas with their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m record their partners’ best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tudents are sharing, continue to circulate around the room, recording ideas and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the ideas and names on the screen.  Use this as the vehicle for shar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D98-6BE4-4C45-A3E7-34F0E6E013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view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f Active Participation Procedure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al Response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Response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writing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bo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Cards/Response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Response Proced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ng out/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al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 Sign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7A1-A608-4CC5-8DC8-4A0DFBB156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ctive Participation Proced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ive participation procedure should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liciting the respon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s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075-27DE-4435-83D7-6745FE6D45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01:45:01Z</dcterms:created>
  <dc:creator>Archer Anita</dc:creator>
  <dc:description/>
  <dc:language>en-US</dc:language>
  <cp:lastModifiedBy>Archer Anita</cp:lastModifiedBy>
  <cp:lastPrinted>2012-09-02T19:06:56Z</cp:lastPrinted>
  <dcterms:modified xsi:type="dcterms:W3CDTF">2013-07-14T00:25:25Z</dcterms:modified>
  <cp:revision>54</cp:revision>
  <dc:subject/>
  <dc:title> </dc:title>
</cp:coreProperties>
</file>